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B92-3D37-437C-91E7-2F9F0778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81D-4DB7-4791-A1FF-82C777F8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411-5F60-41F3-91FC-E8E127E2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C78-0EFB-4DA7-8885-1D8D1358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248-ACD5-4A48-8DAB-A8630593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FD1-C2D8-4E53-AA5D-E773A715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4B0-29BD-4F8C-A52C-06BB9C0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F67-F42E-43D3-8373-A9F9AA9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4FC-C635-49D3-8277-9178958C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844-ECDA-47B3-8CB9-EE0F06B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6FE-D3F0-409C-A470-625F98A9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F5B-31E6-492C-A266-3751120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E362-2011-440B-8CA3-B7B26684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25560"/>
            <a:ext cx="628632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7432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حملتَ العالم وأعطيتَهُ الحيا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تذوق للأبد من فيض سلامِ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54400" y="0"/>
            <a:ext cx="498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3962160" cy="83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أريد الارتواء من عذوبةِ مياهِ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آتي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صرتُ مستعداً لترتاحَ في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514600" cy="83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تشفي المريض وتستقبلُ الضال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ي أؤمن بك وبمشيئ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2666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هديك فرحي وحزني لأجل حصاد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66880" cy="84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هديك فرحي وحزني لأجل حصّاد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55:04Z</dcterms:created>
  <dc:creator>SUZANNE.MD</dc:creator>
  <dc:description/>
  <dc:language>en-US</dc:language>
  <cp:lastModifiedBy>HANI SAFI</cp:lastModifiedBy>
  <dcterms:modified xsi:type="dcterms:W3CDTF">2003-05-22T17:00:41Z</dcterms:modified>
  <cp:revision>3</cp:revision>
  <dc:subject/>
  <dc:title>PowerPoint Presentation</dc:title>
</cp:coreProperties>
</file>